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3.gif" ContentType="image/gif"/>
  <Override PartName="/ppt/media/image17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E43-9238-410C-893C-BC166FD9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800-DCCC-4957-9ACD-45A32AAA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948-E758-4B8B-85E4-725958D1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979-0172-46FE-BA0F-FA8FA0A6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800-AB28-4F37-AA17-D40948C5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773-ABE6-4108-B2C9-4F3DDA26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441-9CC6-492A-9CEC-9367ED55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B56-81A5-4E29-AA4C-4B0B9A09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7A1-2D88-4566-AFDC-11833C8B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8B0-D72F-4FCF-90D3-3CBA3D5C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B56-2386-4191-BAAF-B658E9CD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DCD-1480-4F68-AA1B-A8DB3005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C130-D85F-4D1B-B682-A3DAE728F9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765000"/>
            <a:ext cx="720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00000"/>
                </a:solidFill>
                <a:latin typeface="Times New Roman"/>
              </a:rPr>
              <a:t>Деление десятичных дробе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789360"/>
            <a:ext cx="7345440" cy="27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МБОУ «Красномай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ысак 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6.03.2020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000080" y="1214280"/>
            <a:ext cx="32860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8 ∙ х = 49,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 = 49,6 :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 = 6,2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твет: 6,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071680" y="1214280"/>
            <a:ext cx="271476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0,8 : х =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 = 10,8 :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 = 1,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твет: 1,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920880" y="79200"/>
            <a:ext cx="8192880" cy="1189080"/>
          </a:xfrm>
          <a:prstGeom prst="rect">
            <a:avLst/>
          </a:prstGeom>
          <a:ln w="0">
            <a:noFill/>
          </a:ln>
        </p:spPr>
      </p:pic>
      <p:sp>
        <p:nvSpPr>
          <p:cNvPr id="83" name="Содержимое 2"/>
          <p:cNvSpPr/>
          <p:nvPr/>
        </p:nvSpPr>
        <p:spPr>
          <a:xfrm>
            <a:off x="1000080" y="3857760"/>
            <a:ext cx="3286080" cy="30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49,6  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48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6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_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2286000" y="3929040"/>
            <a:ext cx="0" cy="1214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ая соединительная линия 10"/>
          <p:cNvSpPr/>
          <p:nvPr/>
        </p:nvSpPr>
        <p:spPr>
          <a:xfrm>
            <a:off x="2286000" y="4572000"/>
            <a:ext cx="1071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4929120" y="3857760"/>
            <a:ext cx="3000600" cy="30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0,8 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1,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_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ая соединительная линия 9"/>
          <p:cNvSpPr/>
          <p:nvPr/>
        </p:nvSpPr>
        <p:spPr>
          <a:xfrm>
            <a:off x="6072120" y="4071960"/>
            <a:ext cx="0" cy="12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ая соединительная линия 11"/>
          <p:cNvSpPr/>
          <p:nvPr/>
        </p:nvSpPr>
        <p:spPr>
          <a:xfrm>
            <a:off x="6072120" y="4572000"/>
            <a:ext cx="714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3" descr=""/>
          <p:cNvPicPr/>
          <p:nvPr/>
        </p:nvPicPr>
        <p:blipFill>
          <a:blip r:embed="rId1"/>
          <a:stretch/>
        </p:blipFill>
        <p:spPr>
          <a:xfrm>
            <a:off x="1481040" y="152280"/>
            <a:ext cx="6516720" cy="118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s://ds04.infourok.ru/uploads/ex/064e/00100bdd-6f889af5/hello_html_m1f8182c3.png"/>
          <p:cNvPicPr/>
          <p:nvPr/>
        </p:nvPicPr>
        <p:blipFill>
          <a:blip r:embed="rId2"/>
          <a:stretch/>
        </p:blipFill>
        <p:spPr>
          <a:xfrm>
            <a:off x="2214720" y="3071880"/>
            <a:ext cx="6072120" cy="34956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5" descr=""/>
          <p:cNvPicPr/>
          <p:nvPr/>
        </p:nvPicPr>
        <p:blipFill>
          <a:blip r:embed="rId3"/>
          <a:stretch/>
        </p:blipFill>
        <p:spPr>
          <a:xfrm>
            <a:off x="1401840" y="1352520"/>
            <a:ext cx="646272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hrono.ru/biograf/bio_m/magnicki_ml.jpg"/>
          <p:cNvPicPr/>
          <p:nvPr/>
        </p:nvPicPr>
        <p:blipFill>
          <a:blip r:embed="rId1"/>
          <a:stretch/>
        </p:blipFill>
        <p:spPr>
          <a:xfrm>
            <a:off x="6572160" y="1500120"/>
            <a:ext cx="2028960" cy="25812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2673000" y="571680"/>
            <a:ext cx="591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гницкий, Леонтий Филиппови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1669-1739гг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1714680" y="17146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гницкий – выдающийся педагог-математик первой половины XVIII  века, автор «Арифметики», одной из самых замечательных книг XVIII века, которую М. В. Ломоносов назвал «вратами ученост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https://diletant.media/upload/medialibrary/b89/b890e890430c6f5622d115b92f559784.png"/>
          <p:cNvPicPr/>
          <p:nvPr/>
        </p:nvPicPr>
        <p:blipFill>
          <a:blip r:embed="rId2"/>
          <a:stretch/>
        </p:blipFill>
        <p:spPr>
          <a:xfrm>
            <a:off x="1714680" y="4429080"/>
            <a:ext cx="3860640" cy="2174760"/>
          </a:xfrm>
          <a:prstGeom prst="rect">
            <a:avLst/>
          </a:prstGeom>
          <a:ln w="0">
            <a:noFill/>
          </a:ln>
        </p:spPr>
      </p:pic>
      <p:sp>
        <p:nvSpPr>
          <p:cNvPr id="96" name="Стрелка вверх 5">
            <a:hlinkClick r:id="rId3" action="ppaction://hlinksldjump"/>
          </p:cNvPr>
          <p:cNvSpPr/>
          <p:nvPr/>
        </p:nvSpPr>
        <p:spPr>
          <a:xfrm>
            <a:off x="8429760" y="6000840"/>
            <a:ext cx="428400" cy="571320"/>
          </a:xfrm>
          <a:prstGeom prst="up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№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5 Решаем самостоятель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43040" y="1600200"/>
            <a:ext cx="42148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50000"/>
              </a:lnSpc>
              <a:spcBef>
                <a:spcPts val="11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20,7 : 9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50000"/>
              </a:lnSpc>
              <a:spcBef>
                <a:spcPts val="11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243,2 : 8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50000"/>
              </a:lnSpc>
              <a:spcBef>
                <a:spcPts val="11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61,2 : 12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50000"/>
              </a:lnSpc>
              <a:spcBef>
                <a:spcPts val="11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105,12 : 6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Содержимое 2"/>
          <p:cNvSpPr/>
          <p:nvPr/>
        </p:nvSpPr>
        <p:spPr>
          <a:xfrm>
            <a:off x="1571760" y="1643040"/>
            <a:ext cx="5572080" cy="463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spcBef>
                <a:spcPts val="11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20,7 : 9 = 2,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spcBef>
                <a:spcPts val="11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243,2 : 8 = 30,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spcBef>
                <a:spcPts val="11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61,2 : 12 = 5,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spcBef>
                <a:spcPts val="11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105,12 : 6 = 18,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643040" y="1600200"/>
            <a:ext cx="704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Все правила повторить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820 (в, е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821 (в, е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834 (а, б, в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Прямоугольник 3" descr=""/>
          <p:cNvPicPr/>
          <p:nvPr/>
        </p:nvPicPr>
        <p:blipFill>
          <a:blip r:embed="rId1"/>
          <a:stretch/>
        </p:blipFill>
        <p:spPr>
          <a:xfrm>
            <a:off x="1895400" y="487440"/>
            <a:ext cx="6310440" cy="101736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низ 4">
            <a:hlinkClick r:id="rId2" action="ppaction://hlinksldjump"/>
          </p:cNvPr>
          <p:cNvSpPr/>
          <p:nvPr/>
        </p:nvSpPr>
        <p:spPr>
          <a:xfrm>
            <a:off x="8072280" y="5786280"/>
            <a:ext cx="500400" cy="5716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929040" y="1000080"/>
            <a:ext cx="2500200" cy="31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1643040" y="3429000"/>
            <a:ext cx="2440080" cy="314316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7" descr=""/>
          <p:cNvPicPr/>
          <p:nvPr/>
        </p:nvPicPr>
        <p:blipFill>
          <a:blip r:embed="rId3"/>
          <a:stretch/>
        </p:blipFill>
        <p:spPr>
          <a:xfrm>
            <a:off x="2048040" y="281160"/>
            <a:ext cx="5479920" cy="931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4"/>
          <a:stretch/>
        </p:blipFill>
        <p:spPr>
          <a:xfrm>
            <a:off x="6286680" y="3457440"/>
            <a:ext cx="25383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s://yt3.ggpht.com/a/AGF-l79MMrLR7gfqvkUF5okhVEtgN7XJr-yIMTgWgg=s900-c-k-c0xffffffff-no-rj-mo"/>
          <p:cNvPicPr/>
          <p:nvPr/>
        </p:nvPicPr>
        <p:blipFill>
          <a:blip r:embed="rId1"/>
          <a:stretch/>
        </p:blipFill>
        <p:spPr>
          <a:xfrm>
            <a:off x="3571920" y="178596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2" descr=""/>
          <p:cNvPicPr/>
          <p:nvPr/>
        </p:nvPicPr>
        <p:blipFill>
          <a:blip r:embed="rId2"/>
          <a:stretch/>
        </p:blipFill>
        <p:spPr>
          <a:xfrm>
            <a:off x="1706400" y="281160"/>
            <a:ext cx="6944040" cy="6222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s://liubavyshka.ru/_ph/151/2/528363323.gif"/>
          <p:cNvPicPr/>
          <p:nvPr/>
        </p:nvPicPr>
        <p:blipFill>
          <a:blip r:embed="rId3"/>
          <a:stretch/>
        </p:blipFill>
        <p:spPr>
          <a:xfrm>
            <a:off x="1643040" y="5357880"/>
            <a:ext cx="952560" cy="895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s://liubavyshka.ru/_ph/151/2/528363323.gif"/>
          <p:cNvPicPr/>
          <p:nvPr/>
        </p:nvPicPr>
        <p:blipFill>
          <a:blip r:embed="rId4"/>
          <a:stretch/>
        </p:blipFill>
        <p:spPr>
          <a:xfrm>
            <a:off x="2071800" y="428760"/>
            <a:ext cx="952560" cy="8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s://liubavyshka.ru/_ph/151/2/528363323.gif"/>
          <p:cNvPicPr/>
          <p:nvPr/>
        </p:nvPicPr>
        <p:blipFill>
          <a:blip r:embed="rId5"/>
          <a:stretch/>
        </p:blipFill>
        <p:spPr>
          <a:xfrm>
            <a:off x="7572240" y="5572080"/>
            <a:ext cx="952560" cy="895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https://liubavyshka.ru/_ph/151/2/528363323.gif"/>
          <p:cNvPicPr/>
          <p:nvPr/>
        </p:nvPicPr>
        <p:blipFill>
          <a:blip r:embed="rId6"/>
          <a:stretch/>
        </p:blipFill>
        <p:spPr>
          <a:xfrm>
            <a:off x="1214280" y="3000240"/>
            <a:ext cx="952560" cy="895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https://liubavyshka.ru/_ph/151/2/528363323.gif"/>
          <p:cNvPicPr/>
          <p:nvPr/>
        </p:nvPicPr>
        <p:blipFill>
          <a:blip r:embed="rId7"/>
          <a:stretch/>
        </p:blipFill>
        <p:spPr>
          <a:xfrm>
            <a:off x="7715160" y="428760"/>
            <a:ext cx="95256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https://liubavyshka.ru/_ph/151/2/528363323.gif"/>
          <p:cNvPicPr/>
          <p:nvPr/>
        </p:nvPicPr>
        <p:blipFill>
          <a:blip r:embed="rId8"/>
          <a:stretch/>
        </p:blipFill>
        <p:spPr>
          <a:xfrm>
            <a:off x="7929720" y="3000240"/>
            <a:ext cx="9522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Найди и исправь ошиб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56840" y="1356840"/>
            <a:ext cx="3643560" cy="528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6,4 : 2 = 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,6 : 6   =  0,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1,7 : 7 = 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,8 : 4   =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,15 : 3 = 0,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429000" y="1356840"/>
            <a:ext cx="1643040" cy="528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000" spc="-1" strike="noStrike">
                <a:solidFill>
                  <a:srgbClr val="b00000"/>
                </a:solidFill>
                <a:latin typeface="Times New Roman"/>
              </a:rPr>
              <a:t>,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b00000"/>
                </a:solidFill>
                <a:latin typeface="Times New Roman"/>
              </a:rPr>
              <a:t>,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0000"/>
                </a:solidFill>
                <a:latin typeface="Times New Roman"/>
              </a:rPr>
              <a:t>0,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ru-RU" sz="4000" spc="-1" strike="noStrike">
                <a:solidFill>
                  <a:srgbClr val="b00000"/>
                </a:solidFill>
                <a:latin typeface="Times New Roman"/>
              </a:rPr>
              <a:t>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Стрелка влево 4">
            <a:hlinkClick r:id="rId1" action="ppaction://hlinksldjump"/>
          </p:cNvPr>
          <p:cNvSpPr/>
          <p:nvPr/>
        </p:nvSpPr>
        <p:spPr>
          <a:xfrm>
            <a:off x="8072280" y="5857920"/>
            <a:ext cx="714600" cy="50004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763640" y="1557360"/>
            <a:ext cx="669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драя со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нейка, карандаш, ласти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рку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став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н "тетрадная клетка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763640" y="404640"/>
            <a:ext cx="69120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чник шаблон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7058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00000"/>
                </a:solidFill>
                <a:latin typeface="Times New Roman"/>
              </a:rPr>
              <a:t>Повторение</a:t>
            </a: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43040" y="1428480"/>
            <a:ext cx="7129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1)  Умножение десятичных дробей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          </a:t>
            </a:r>
            <a:r>
              <a:rPr b="0" lang="ru-RU" sz="3200" spc="-1" strike="noStrike" u="sng">
                <a:solidFill>
                  <a:srgbClr val="800000"/>
                </a:solidFill>
                <a:uFillTx/>
                <a:latin typeface="Monotype Corsiva"/>
                <a:ea typeface="Simplified Arabic Fixed"/>
                <a:hlinkClick r:id="rId1" action="ppaction://hlinksldjump"/>
              </a:rPr>
              <a:t>а) на натуральное число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          </a:t>
            </a:r>
            <a:r>
              <a:rPr b="0" lang="en-US" sz="3200" spc="-1" strike="noStrike" u="sng">
                <a:solidFill>
                  <a:srgbClr val="800000"/>
                </a:solidFill>
                <a:uFillTx/>
                <a:latin typeface="Monotype Corsiva"/>
                <a:ea typeface="Simplified Arabic Fixed"/>
                <a:hlinkClick r:id="rId2" action="ppaction://hlinksldjump"/>
              </a:rPr>
              <a:t>b)</a:t>
            </a:r>
            <a:r>
              <a:rPr b="0" lang="ru-RU" sz="3200" spc="-1" strike="noStrike" u="sng">
                <a:solidFill>
                  <a:srgbClr val="800000"/>
                </a:solidFill>
                <a:uFillTx/>
                <a:latin typeface="Monotype Corsiva"/>
                <a:ea typeface="Simplified Arabic Fixed"/>
                <a:hlinkClick r:id="rId3" action="ppaction://hlinksldjump"/>
              </a:rPr>
              <a:t> на 10, 100, 1000 и т. д.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          </a:t>
            </a:r>
            <a:r>
              <a:rPr b="0" lang="en-US" sz="3200" spc="-1" strike="noStrike" u="sng">
                <a:solidFill>
                  <a:srgbClr val="800000"/>
                </a:solidFill>
                <a:uFillTx/>
                <a:latin typeface="Monotype Corsiva"/>
                <a:ea typeface="Simplified Arabic Fixed"/>
                <a:hlinkClick r:id="rId4" action="ppaction://hlinksldjump"/>
              </a:rPr>
              <a:t>c)</a:t>
            </a:r>
            <a:r>
              <a:rPr b="0" lang="ru-RU" sz="3200" spc="-1" strike="noStrike" u="sng">
                <a:solidFill>
                  <a:srgbClr val="800000"/>
                </a:solidFill>
                <a:uFillTx/>
                <a:latin typeface="Monotype Corsiva"/>
                <a:ea typeface="Simplified Arabic Fixed"/>
                <a:hlinkClick r:id="rId5" action="ppaction://hlinksldjump"/>
              </a:rPr>
              <a:t> на десятичную дробь.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Деление десятичных дроб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 </a:t>
            </a:r>
            <a:r>
              <a:rPr b="0" lang="ru-RU" sz="3200" spc="-1" strike="noStrike" u="sng">
                <a:solidFill>
                  <a:srgbClr val="800000"/>
                </a:solidFill>
                <a:uFillTx/>
                <a:latin typeface="Monotype Corsiva"/>
                <a:ea typeface="Simplified Arabic Fixed"/>
                <a:hlinkClick r:id="rId6" action="ppaction://hlinksldjump"/>
              </a:rPr>
              <a:t>а) на 10,100,1000 и т. 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00000"/>
                </a:solidFill>
                <a:uFillTx/>
                <a:latin typeface="Monotype Corsiva"/>
                <a:ea typeface="Simplified Arabic Fixed"/>
                <a:hlinkClick r:id="rId7" action="ppaction://hlinksldjump"/>
              </a:rPr>
              <a:t>б</a:t>
            </a:r>
            <a:r>
              <a:rPr b="0" lang="en-US" sz="3200" spc="-1" strike="noStrike" u="sng">
                <a:solidFill>
                  <a:srgbClr val="800000"/>
                </a:solidFill>
                <a:uFillTx/>
                <a:latin typeface="Monotype Corsiva"/>
                <a:ea typeface="Simplified Arabic Fixed"/>
                <a:hlinkClick r:id="rId8" action="ppaction://hlinksldjump"/>
              </a:rPr>
              <a:t>)</a:t>
            </a:r>
            <a:r>
              <a:rPr b="0" lang="ru-RU" sz="3200" spc="-1" strike="noStrike" u="sng">
                <a:solidFill>
                  <a:srgbClr val="800000"/>
                </a:solidFill>
                <a:uFillTx/>
                <a:latin typeface="Monotype Corsiva"/>
                <a:ea typeface="Simplified Arabic Fixed"/>
                <a:hlinkClick r:id="rId9" action="ppaction://hlinksldjump"/>
              </a:rPr>
              <a:t> на натуральное числ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Стрелка вниз 3">
            <a:hlinkClick r:id="rId10" action="ppaction://hlinksldjump"/>
          </p:cNvPr>
          <p:cNvSpPr/>
          <p:nvPr/>
        </p:nvSpPr>
        <p:spPr>
          <a:xfrm>
            <a:off x="8429760" y="6143760"/>
            <a:ext cx="50004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480960" y="139680"/>
            <a:ext cx="8682120" cy="1592280"/>
          </a:xfrm>
          <a:prstGeom prst="rect">
            <a:avLst/>
          </a:prstGeom>
          <a:ln w="0">
            <a:noFill/>
          </a:ln>
        </p:spPr>
      </p:pic>
      <p:sp>
        <p:nvSpPr>
          <p:cNvPr id="47" name="Содержимое 2"/>
          <p:cNvSpPr/>
          <p:nvPr/>
        </p:nvSpPr>
        <p:spPr>
          <a:xfrm>
            <a:off x="1428840" y="2071800"/>
            <a:ext cx="722952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Чтобы умножить десятичную дробь на натуральное число, надо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1)  умножить её на это число, не обращая внимания на запятую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2)  в полученном произведении отделить запятой столько цифр справа, сколько их отделено запятой в десятичной дроб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Стрелка влево 3">
            <a:hlinkClick r:id="rId2" action="ppaction://hlinksldjump"/>
          </p:cNvPr>
          <p:cNvSpPr/>
          <p:nvPr/>
        </p:nvSpPr>
        <p:spPr>
          <a:xfrm>
            <a:off x="8072280" y="6215040"/>
            <a:ext cx="714600" cy="4287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Содержимое 2"/>
          <p:cNvSpPr/>
          <p:nvPr/>
        </p:nvSpPr>
        <p:spPr>
          <a:xfrm>
            <a:off x="1571760" y="2332080"/>
            <a:ext cx="7115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Чтобы умножить десятичную дробь на 10, 100, 1000 и т.д., надо в этой дроби перенести запятую на столько цифр вправо, сколько нулей стоит в множителе после един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Например,     0,065</a:t>
            </a:r>
            <a:r>
              <a:rPr b="1" lang="en-US" sz="32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×</a:t>
            </a:r>
            <a:r>
              <a:rPr b="1" lang="en-US" sz="32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1000 = 0065, = 65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Cambria Mat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Стрелка вправо 6"/>
          <p:cNvSpPr/>
          <p:nvPr/>
        </p:nvSpPr>
        <p:spPr>
          <a:xfrm>
            <a:off x="5214960" y="5929200"/>
            <a:ext cx="500040" cy="71640"/>
          </a:xfrm>
          <a:prstGeom prst="rightArrow">
            <a:avLst>
              <a:gd name="adj1" fmla="val 50000"/>
              <a:gd name="adj2" fmla="val 49861"/>
            </a:avLst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Стрелка вправо 7"/>
          <p:cNvSpPr/>
          <p:nvPr/>
        </p:nvSpPr>
        <p:spPr>
          <a:xfrm>
            <a:off x="4071960" y="5929200"/>
            <a:ext cx="500040" cy="71640"/>
          </a:xfrm>
          <a:prstGeom prst="rightArrow">
            <a:avLst>
              <a:gd name="adj1" fmla="val 50000"/>
              <a:gd name="adj2" fmla="val 49861"/>
            </a:avLst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трелка вправо 8"/>
          <p:cNvSpPr/>
          <p:nvPr/>
        </p:nvSpPr>
        <p:spPr>
          <a:xfrm>
            <a:off x="6286680" y="5929200"/>
            <a:ext cx="500040" cy="71640"/>
          </a:xfrm>
          <a:prstGeom prst="rightArrow">
            <a:avLst>
              <a:gd name="adj1" fmla="val 50000"/>
              <a:gd name="adj2" fmla="val 49861"/>
            </a:avLst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Стрелка влево 5">
            <a:hlinkClick r:id="rId1" action="ppaction://hlinksldjump"/>
          </p:cNvPr>
          <p:cNvSpPr/>
          <p:nvPr/>
        </p:nvSpPr>
        <p:spPr>
          <a:xfrm>
            <a:off x="8072280" y="6215040"/>
            <a:ext cx="714600" cy="4287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Заголовок 1" descr=""/>
          <p:cNvPicPr/>
          <p:nvPr/>
        </p:nvPicPr>
        <p:blipFill>
          <a:blip r:embed="rId2"/>
          <a:stretch/>
        </p:blipFill>
        <p:spPr>
          <a:xfrm>
            <a:off x="500040" y="212760"/>
            <a:ext cx="86439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1481040" y="133200"/>
            <a:ext cx="7224840" cy="16718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1714680" y="2000160"/>
            <a:ext cx="6500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Чтобы перемножить две десятичные дроби, надо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1)  выполнить умножение, не обращая внимания на запятые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2)  в полученном произведении отделить запятой столько цифр справа, сколько их стоит после запятой в обоих  множителях  вмес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Стрелка влево 3">
            <a:hlinkClick r:id="rId2" action="ppaction://hlinksldjump"/>
          </p:cNvPr>
          <p:cNvSpPr/>
          <p:nvPr/>
        </p:nvSpPr>
        <p:spPr>
          <a:xfrm>
            <a:off x="8072280" y="6215040"/>
            <a:ext cx="714600" cy="4287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Содержимое 2"/>
          <p:cNvSpPr/>
          <p:nvPr/>
        </p:nvSpPr>
        <p:spPr>
          <a:xfrm>
            <a:off x="1714680" y="1643040"/>
            <a:ext cx="70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Чтобы разделить десятичную дробь на 10, 100, 1000 и т.д., надо в этой дроби перенести запятую на столько цифр влево, сколько нулей стоит после единицы в делител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Например,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8,765</a:t>
            </a:r>
            <a:r>
              <a:rPr b="1" lang="en-US" sz="32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Monotype Corsiva"/>
              </a:rPr>
              <a:t>:</a:t>
            </a:r>
            <a:r>
              <a:rPr b="1" lang="en-US" sz="32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100 = 008,76 </a:t>
            </a:r>
            <a:r>
              <a:rPr b="1" lang="ru-RU" sz="3200" spc="-1" strike="noStrike">
                <a:solidFill>
                  <a:srgbClr val="cc0000"/>
                </a:solidFill>
                <a:latin typeface="Monotype Corsiva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100= 0,08765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Cambria Mat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трелка влево 3"/>
          <p:cNvSpPr/>
          <p:nvPr/>
        </p:nvSpPr>
        <p:spPr>
          <a:xfrm>
            <a:off x="3714840" y="5786280"/>
            <a:ext cx="428400" cy="46080"/>
          </a:xfrm>
          <a:prstGeom prst="leftArrow">
            <a:avLst>
              <a:gd name="adj1" fmla="val 50000"/>
              <a:gd name="adj2" fmla="val 49928"/>
            </a:avLst>
          </a:prstGeom>
          <a:solidFill>
            <a:srgbClr val="0000ff">
              <a:alpha val="46000"/>
            </a:srgbClr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трелка влево 4"/>
          <p:cNvSpPr/>
          <p:nvPr/>
        </p:nvSpPr>
        <p:spPr>
          <a:xfrm>
            <a:off x="2214720" y="5786280"/>
            <a:ext cx="428400" cy="46080"/>
          </a:xfrm>
          <a:prstGeom prst="leftArrow">
            <a:avLst>
              <a:gd name="adj1" fmla="val 50000"/>
              <a:gd name="adj2" fmla="val 49928"/>
            </a:avLst>
          </a:prstGeom>
          <a:solidFill>
            <a:srgbClr val="0000ff">
              <a:alpha val="46000"/>
            </a:srgbClr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Стрелка влево 5"/>
          <p:cNvSpPr/>
          <p:nvPr/>
        </p:nvSpPr>
        <p:spPr>
          <a:xfrm>
            <a:off x="4714920" y="5786280"/>
            <a:ext cx="357120" cy="71640"/>
          </a:xfrm>
          <a:prstGeom prst="leftArrow">
            <a:avLst>
              <a:gd name="adj1" fmla="val 50000"/>
              <a:gd name="adj2" fmla="val 49849"/>
            </a:avLst>
          </a:prstGeom>
          <a:solidFill>
            <a:srgbClr val="0000ff">
              <a:alpha val="46000"/>
            </a:srgbClr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Стрелка влево 6"/>
          <p:cNvSpPr/>
          <p:nvPr/>
        </p:nvSpPr>
        <p:spPr>
          <a:xfrm flipV="1">
            <a:off x="6929280" y="5786280"/>
            <a:ext cx="357480" cy="460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0000ff">
              <a:alpha val="46000"/>
            </a:srgbClr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Стрелка влево 7">
            <a:hlinkClick r:id="rId1" action="ppaction://hlinksldjump"/>
          </p:cNvPr>
          <p:cNvSpPr/>
          <p:nvPr/>
        </p:nvSpPr>
        <p:spPr>
          <a:xfrm>
            <a:off x="8072280" y="6215040"/>
            <a:ext cx="714600" cy="4287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Прямоугольник 8" descr=""/>
          <p:cNvPicPr/>
          <p:nvPr/>
        </p:nvPicPr>
        <p:blipFill>
          <a:blip r:embed="rId2"/>
          <a:stretch/>
        </p:blipFill>
        <p:spPr>
          <a:xfrm>
            <a:off x="1494000" y="85680"/>
            <a:ext cx="744192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1"/>
          <p:cNvSpPr/>
          <p:nvPr/>
        </p:nvSpPr>
        <p:spPr>
          <a:xfrm>
            <a:off x="1500120" y="274680"/>
            <a:ext cx="718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928880" y="2071800"/>
            <a:ext cx="6286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Чтобы разделить десятичную дробь на натуральное число, надо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1)  разделить дробь на это число, не обращая внимания на запятую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Simplified Arabic Fixed"/>
              </a:rPr>
              <a:t>2)  поставить в частном запятую,  когда кончится деление целой части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трелка влево 3">
            <a:hlinkClick r:id="rId1" action="ppaction://hlinksldjump"/>
          </p:cNvPr>
          <p:cNvSpPr/>
          <p:nvPr/>
        </p:nvSpPr>
        <p:spPr>
          <a:xfrm>
            <a:off x="8072280" y="6215040"/>
            <a:ext cx="714600" cy="4287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Заголовок 1" descr=""/>
          <p:cNvPicPr/>
          <p:nvPr/>
        </p:nvPicPr>
        <p:blipFill>
          <a:blip r:embed="rId2"/>
          <a:stretch/>
        </p:blipFill>
        <p:spPr>
          <a:xfrm>
            <a:off x="1500120" y="285840"/>
            <a:ext cx="746136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500120" y="1356840"/>
            <a:ext cx="3610080" cy="30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 Скорость первого парохода 42,6 км/ч, а скорость второго в 2 раза меньше. Чему равна скорость второго пароход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428800" y="1356840"/>
            <a:ext cx="3429000" cy="500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метр  квадрата равен 24,8 м. Чему равна сторона квадрат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 = а ∙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2968560" y="12600"/>
            <a:ext cx="3340080" cy="118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im.kommersant.ru/Issues.photo/MONEY/2013/048/KMO_090612_03287_1_t218_213247.jpg"/>
          <p:cNvPicPr/>
          <p:nvPr/>
        </p:nvPicPr>
        <p:blipFill>
          <a:blip r:embed="rId2"/>
          <a:stretch/>
        </p:blipFill>
        <p:spPr>
          <a:xfrm>
            <a:off x="1500120" y="4429080"/>
            <a:ext cx="3640320" cy="20001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6143760" y="4000680"/>
            <a:ext cx="107136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7215120" y="5143680"/>
            <a:ext cx="1428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 = а ∙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3400560" cy="475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0,4 ∙ 2 =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3,2 ∙ 3 =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4 ∙ 0,9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7 ∙ 0,3 =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57840" y="1571760"/>
            <a:ext cx="3571920" cy="49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? = 0,8 :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? = 9,6 :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? = 3,6 :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? = 2,1 :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Прямоугольник 4" descr=""/>
          <p:cNvPicPr/>
          <p:nvPr/>
        </p:nvPicPr>
        <p:blipFill>
          <a:blip r:embed="rId1"/>
          <a:stretch/>
        </p:blipFill>
        <p:spPr>
          <a:xfrm>
            <a:off x="1504800" y="225360"/>
            <a:ext cx="6932880" cy="1189080"/>
          </a:xfrm>
          <a:prstGeom prst="rect">
            <a:avLst/>
          </a:prstGeom>
          <a:ln w="0">
            <a:noFill/>
          </a:ln>
        </p:spPr>
      </p:pic>
      <p:sp>
        <p:nvSpPr>
          <p:cNvPr id="78" name="Содержимое 2"/>
          <p:cNvSpPr/>
          <p:nvPr/>
        </p:nvSpPr>
        <p:spPr>
          <a:xfrm>
            <a:off x="357120" y="1571760"/>
            <a:ext cx="3929040" cy="49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0,4 ∙ 2 = 0,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3,2 ∙ 3 = 9,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4 ∙ 0,9 = 3,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7 ∙ 0,3 = 2,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Содержимое 3"/>
          <p:cNvSpPr/>
          <p:nvPr/>
        </p:nvSpPr>
        <p:spPr>
          <a:xfrm>
            <a:off x="4857840" y="1571760"/>
            <a:ext cx="3714840" cy="49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0,4 = 0,8 : 2 3,2 = 9,6 :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0,9 = 3,6 :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0,3 = 2,1 :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Ольга</cp:lastModifiedBy>
  <dcterms:modified xsi:type="dcterms:W3CDTF">2020-05-31T23:22:30Z</dcterms:modified>
  <cp:revision>105</cp:revision>
  <dc:subject/>
  <dc:title>Слайд 1</dc:title>
</cp:coreProperties>
</file>